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D05-9F23-4621-98D1-38AD6C7D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8F2-EA65-4FAE-A608-B4F331A6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D8A-4A1E-4972-915A-44B0ADE7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750-06FF-4987-A414-988F7413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E15F-F336-49EB-9ACE-19B5FEE0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F02D-CEAB-4C89-B42E-6BEA96F1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95E4-ABBB-4C4D-86AA-4F84CD90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A980-B59A-4E91-955E-86E6BBF6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89F3-86C0-4BBA-87D1-D03DD276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5D22-A693-4B7E-B38B-AD94BDA7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646F-06C8-4C41-96C4-35277BBE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69E-D60D-42C9-8CE3-611207D1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596C-4160-49BA-9DB2-32CA219B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3DE2-0101-4646-A04E-EE6FDAD7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F50C-55C2-42B5-BBA0-155BA77F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A02B-EA13-4F4E-A5F8-3C4A4741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A2AF-2A97-4480-B87A-8C7C72B5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AE4FD-E5C2-43CE-8E30-01A451B3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EBBD3-E1B4-4CF7-9CD8-EC342E7F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0FC5C-3184-4AF2-810A-0E1A5B43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CA004-A10E-44A1-9AD4-A9669236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60545-F8C9-4118-83DB-2B04C47B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71AE-EA8C-49ED-80DB-C26D2801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A0112-0D28-408D-A545-010CCF8C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693C-AD68-47CB-A2DB-28B6A9A1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9CD8A-20E7-4A84-90CD-BD139AC2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53116-3FBB-4238-AEC3-60B87A1D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FCC2-8020-4AC6-8FEF-85BA8A91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0F8B8-20DA-4C1A-A7BE-787C2934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96F4C-2704-45FA-A76A-EA43F9E9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0A1B6-C15A-4513-8109-59B47A17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688A0-13C5-47DA-BE03-E3258F19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30373-4292-4EF1-A578-1B72EC42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BC11-BD0E-4454-8AD7-4F92CC30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D7470-CA66-4157-B46B-D79589B7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34B79-E910-46C3-96D3-4E4D2A73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60399-4B41-4E31-9B73-B8200345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19034-E11A-44D8-B240-FADD537A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39EA4-51B7-413F-9E20-BF8A94C6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9DB8B-91B8-4D90-8A59-D88D2316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0E7BA-FE84-4E98-AAE3-1DE36274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9AE8-55BD-40F5-8BC2-8269F948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5DA74-ADFC-464E-9E56-6E9B96B8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5BC0D-FCC0-483E-A303-C8AA4A59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3ADA-C51C-4052-BA46-812C2272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ED337-F23E-441D-BA3D-D8FF17F6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8E84C-1BB7-4758-8F8D-10C31198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1AF66-CB04-4C87-918C-58EAE1DF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1642C-5E1C-476E-A910-717D5760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9226A-E124-4340-8231-49A54AD4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BC87D-FE03-412C-9BD8-0B73CBE8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37F83-A252-4B73-B34B-0B81CD9E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746A4-E4BE-43EE-9EF1-8A167CE7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C1881-6B3D-4608-8C02-FB74198B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0371A-595B-4E45-9257-6AE4D7BB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4F8-3BF9-4CE7-A040-1BB66EBF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33D71-64D3-4C0B-BC38-845B50A3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51CB3-DD89-4273-A8E8-E103D9FB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C7AAC-7FD3-4D57-8C7C-D7FEC450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7BD31-3D3F-44DA-9AAE-A084840D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4137E-5A9F-49B0-BE04-14FD467F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E785C-DBE2-419B-9755-03890BCC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3DCCF-4EDB-4ACE-8963-72F3815B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FDC1B-2D31-4DD3-9993-68B99129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8A540-0023-4423-A64E-80B60634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6D5BE-6A40-4F5E-ABF9-050600EA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8DC-9E01-43E4-8CD6-4BD6D441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49D6B-9D73-41CF-A5DA-50384421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617ED-CC3E-429C-94E4-07EE2E05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C21B8-CB86-4C71-B6E8-3883D1DE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16A-A571-40A1-8267-08EB0974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F92-B7A9-4165-8C43-26D675DA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手繪多邊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46C9-234A-465E-A5AF-6CF050D7CF83}" type="slidenum">
              <a:rPr b="0" lang="zh-TW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手繪多邊形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手繪多邊形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9D59-BDD2-4793-8B32-848EF1E8B679}" type="slidenum">
              <a:rPr b="0" lang="zh-TW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手繪多邊形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手繪多邊形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3F67-C691-406D-879F-FEC9651038CF}" type="slidenum">
              <a:rPr b="0" lang="zh-TW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62E6-F522-4F47-BED7-15AA956B1537}" type="slidenum">
              <a:rPr b="0" lang="zh-TW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手繪多邊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手繪多邊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D032-FED7-4439-AB2E-86B569FFED8A}" type="slidenum">
              <a:rPr b="0" lang="zh-TW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5223-D5EC-4FFB-96F9-43B483A31F90}" type="slidenum">
              <a:rPr b="0" lang="zh-TW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標題 1" descr=""/>
          <p:cNvPicPr/>
          <p:nvPr/>
        </p:nvPicPr>
        <p:blipFill>
          <a:blip r:embed="rId1"/>
          <a:stretch/>
        </p:blipFill>
        <p:spPr>
          <a:xfrm>
            <a:off x="2279520" y="646200"/>
            <a:ext cx="6480360" cy="3359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050560" y="3933360"/>
            <a:ext cx="648036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主持人：李文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執行單位：臺北市立建國高級中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ffffff"/>
                </a:solidFill>
                <a:latin typeface="Franklin Gothic Book"/>
              </a:rPr>
              <a:t>研究成果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-6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28760" y="1213920"/>
            <a:ext cx="65721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製作二維的太陽電波強度圖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2Dsolar_map1"/>
          <p:cNvPicPr/>
          <p:nvPr/>
        </p:nvPicPr>
        <p:blipFill>
          <a:blip r:embed="rId1"/>
          <a:stretch/>
        </p:blipFill>
        <p:spPr>
          <a:xfrm>
            <a:off x="1143000" y="1857240"/>
            <a:ext cx="64292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ffffff"/>
                </a:solidFill>
                <a:latin typeface="Franklin Gothic Book"/>
              </a:rPr>
              <a:t>研究成果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-7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28760" y="1213920"/>
            <a:ext cx="7500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撰寫操作手冊：目前完成初版，將來也會公開於網路，歡迎各界下載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推廣研討會：由臺北市立天文科學教育館與臺北市天文協會合辦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年「電波望遠鏡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Y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」，活動日期是今年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/27(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五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至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/29(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日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，共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日，每日上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時至下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時，開始接受報名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論文發表：第三屆海峽兩岸科普論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元智大學，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年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日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發表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電波望遠鏡動手作活動“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ffffff"/>
                </a:solidFill>
                <a:latin typeface="Franklin Gothic Book"/>
              </a:rPr>
              <a:t>討論及建議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-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600200"/>
            <a:ext cx="746748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希望數值資料可以保存起來，並於網路上資料公開分享，歡迎各界做科學研究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最好能有網路平台的建置和維護，邀集同好進行意見與經驗交流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單一電波望遠鏡的解析力不高，須要更精準的指向設備，使所得的數值資料精度提昇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ffffff"/>
                </a:solidFill>
                <a:latin typeface="Franklin Gothic Book"/>
              </a:rPr>
              <a:t>討論及建議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-2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為提高電波望遠鏡的解析力，將來可考慮以陣列方式提高解析力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經費縮水非常嚴重，且行政作業繁鎖，研究的時間都不夠了，實無餘力應付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後續若有人願意接手推廣科學研究，願教育部給予研究者最大支持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ffffff"/>
                </a:solidFill>
                <a:latin typeface="Franklin Gothic Book"/>
              </a:rPr>
              <a:t>感謝您的聆聽，敬請指教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ffffff"/>
                </a:solidFill>
                <a:latin typeface="Franklin Gothic Book"/>
              </a:rPr>
              <a:t>報告大綱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計畫目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研究方法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研究成果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討論及建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ffffff"/>
                </a:solidFill>
                <a:latin typeface="Franklin Gothic Book"/>
              </a:rPr>
              <a:t>計畫目的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配合國際電波天文學的研究與發展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發展業餘電波天文觀測的環境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推廣高中生電波天文望遠鏡動手做活動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提升國內高中生對電波天文學以及相關技術的興趣與能力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ffffff"/>
                </a:solidFill>
                <a:latin typeface="Franklin Gothic Book"/>
              </a:rPr>
              <a:t>研究方法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使用現有的商業產品，組裝出業餘電波天文望遠鏡，並能進行有意義的電波觀測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利用自製的類比轉數位設備，將接收到的電波類比訊號轉為數位訊號，透過筆電擷取，以利數值資料的分析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結合中學生天文社團，藉此瞭解學生學習過程的盲點，以利操作手冊之撰寫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舉辦研討會，向各級學校推廣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ffffff"/>
                </a:solidFill>
                <a:latin typeface="Franklin Gothic Book"/>
              </a:rPr>
              <a:t>研究成果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-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28760" y="1214280"/>
            <a:ext cx="740088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市面上的小耳朵衛星接收設備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圖片 20" descr="2.JPG"/>
          <p:cNvPicPr/>
          <p:nvPr/>
        </p:nvPicPr>
        <p:blipFill>
          <a:blip r:embed="rId1"/>
          <a:stretch/>
        </p:blipFill>
        <p:spPr>
          <a:xfrm>
            <a:off x="857160" y="1785960"/>
            <a:ext cx="67150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ffffff"/>
                </a:solidFill>
                <a:latin typeface="Franklin Gothic Book"/>
              </a:rPr>
              <a:t>研究成果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-2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28760" y="1214280"/>
            <a:ext cx="740088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組裝成電波望遠鏡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圖片 9" descr="D:\建中\2010_radio_diy\新資料夾\DSC00507.jpg"/>
          <p:cNvPicPr/>
          <p:nvPr/>
        </p:nvPicPr>
        <p:blipFill>
          <a:blip r:embed="rId1"/>
          <a:stretch/>
        </p:blipFill>
        <p:spPr>
          <a:xfrm>
            <a:off x="928800" y="1714680"/>
            <a:ext cx="635796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ffffff"/>
                </a:solidFill>
                <a:latin typeface="Franklin Gothic Book"/>
              </a:rPr>
              <a:t>研究成果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-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28760" y="1214280"/>
            <a:ext cx="740088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訊號轉換器，把接收到的電波訊號由電腦記錄儲存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圖片 7" descr="D:\建中\2010_radio_diy\新資料夾\DSC00514.jpg"/>
          <p:cNvPicPr/>
          <p:nvPr/>
        </p:nvPicPr>
        <p:blipFill>
          <a:blip r:embed="rId1"/>
          <a:stretch/>
        </p:blipFill>
        <p:spPr>
          <a:xfrm>
            <a:off x="928800" y="2286000"/>
            <a:ext cx="535788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ffffff"/>
                </a:solidFill>
                <a:latin typeface="Franklin Gothic Book"/>
              </a:rPr>
              <a:t>研究成果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-4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8760" y="1213920"/>
            <a:ext cx="228600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進行太陽的掃瞄觀測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圖片 11" descr="D:\建中\2010_radio_diy\望遠鏡\圖片\DSC00252.JPG"/>
          <p:cNvPicPr/>
          <p:nvPr/>
        </p:nvPicPr>
        <p:blipFill>
          <a:blip r:embed="rId1"/>
          <a:stretch/>
        </p:blipFill>
        <p:spPr>
          <a:xfrm>
            <a:off x="4143240" y="714240"/>
            <a:ext cx="434844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600" spc="-1" strike="noStrike">
                <a:solidFill>
                  <a:srgbClr val="ffffff"/>
                </a:solidFill>
                <a:latin typeface="Franklin Gothic Book"/>
              </a:rPr>
              <a:t>研究成果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-5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28760" y="1213920"/>
            <a:ext cx="65721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ffff"/>
                </a:solidFill>
                <a:latin typeface="Arial"/>
              </a:rPr>
              <a:t>一維數值資料的記錄與分析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圖片 11" descr="D:\建中\2010_radio_diy\望遠鏡\電波訊號圖\1.jpg"/>
          <p:cNvPicPr/>
          <p:nvPr/>
        </p:nvPicPr>
        <p:blipFill>
          <a:blip r:embed="rId1"/>
          <a:stretch/>
        </p:blipFill>
        <p:spPr>
          <a:xfrm>
            <a:off x="785880" y="1785960"/>
            <a:ext cx="650088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3:12:24Z</dcterms:created>
  <dc:creator>Martian</dc:creator>
  <dc:description/>
  <dc:language>en-US</dc:language>
  <cp:lastModifiedBy>wllee</cp:lastModifiedBy>
  <dcterms:modified xsi:type="dcterms:W3CDTF">2010-07-08T03:30:38Z</dcterms:modified>
  <cp:revision>53</cp:revision>
  <dc:subject/>
  <dc:title>教育部九十八學年度 中小學科學教育專案期中報告  電波天文望遠鏡 動手作實驗推廣計畫 </dc:title>
</cp:coreProperties>
</file>